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2DC-C55A-4A70-B2F2-742E583F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B0B-7EBA-4F2E-98DB-B60A504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F49-9D5A-4BB6-ACC4-CC6B101F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2E1-258A-4BBB-ABC6-4401DA4C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901-58C3-4DC6-ACEA-893FC0C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DBE-73BC-4B7F-AD31-AAEE71DB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E80-EFBB-44AB-9959-C8B84137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B1F-4065-4903-85E8-A3FB030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B75-66A5-4D2F-8C8B-3593092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E66-A1A7-47CD-AF51-40BD3E7B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1B5-2AE9-4562-A3B9-A093F07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BA6-5D6F-44CD-8F14-454A356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12ECC-EF16-4782-BDD8-81A52642E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on of the verb after certain adverbs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pattern do you notice about these adverbial express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 hav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ever befo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been aske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accept a brib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ever befor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ve I been aske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accept a brib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e h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ard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when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ard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d he left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ouse when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e h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o soon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d he 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dverbs and adverb phrases, mostl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th a restrictive or negative sen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mph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placed first in a sentence and are then followed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inverted for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frequent of these adverbs and adverb phrase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, seldom, ev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cely, scarcely … wh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ly … when, no sooner … than, nowher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o circumstances, on no accoun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by, only then, only when, only in this way, not till, not only, so neither, 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6160"/>
            <a:ext cx="822960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switch must not be touche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 any accou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ust this swit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touch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was able to make himself hear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shouting at the top of his lu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shouting at the top of his lung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was he ab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make himself he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alize that he had lost his keys till he got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ill he got hom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realiz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he had lost his ke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1884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hieve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 onl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ole the jewelry, they smashed every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 onl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the thiev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l the jewelry, they smashed every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am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spicious tha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spiciou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bec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ad no money and h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ve any friends to borrow fro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ad no money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ha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y friends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, placing the adverbs or adverbial phrase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beginning of the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ha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down the receiver with relief than the telephone rang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iev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lized that the police had already surrounded the b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tor told his patient that he shoul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to work until he fully re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ul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ubt his integrit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on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hole truth di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come know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til many years la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, placing the adverbs or adverbial phrase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beginning of the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down the receiver with relief than the telephone rang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d the thieves real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the police had already surrounded the b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tor told his patient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 to work until he fully re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one mo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doubt his integr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until many years la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d the whole tr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come kn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sentences, write another sentence as similar as possible in meaning, beginning with the word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villages don’t have regular bus service any more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unusual for temperatures to fall below freezing in the south of the country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the first time he had ever been in such a predicament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on’t succeed unless you work hard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tarted raining as soon as we stepped outside the door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sentences, write another sentence as similar as possible in meaning, beginning with the word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long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 remote villages ha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ular bus service any mo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d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ures f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freezing in the south of the coun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he be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such a predic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ly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ha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ll you succe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we stepp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the door than it started rain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3:50:49Z</dcterms:created>
  <dc:creator>Paul Filippetto</dc:creator>
  <dc:description/>
  <dc:language>en-US</dc:language>
  <cp:lastModifiedBy>Paul Filippetto</cp:lastModifiedBy>
  <dcterms:modified xsi:type="dcterms:W3CDTF">2013-03-10T18:52:12Z</dcterms:modified>
  <cp:revision>13</cp:revision>
  <dc:subject/>
  <dc:title>PowerPoint Presentation</dc:title>
</cp:coreProperties>
</file>